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29F-1A0D-4D8C-A9AD-4FA34549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90-BBC4-43E4-95A1-D3D9F96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48E-982A-43A6-B03B-058F4350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184-DA5E-465C-8656-9C551D19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DC2-D2EB-4718-BEB2-8480A4D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106-6FDF-4655-9111-05E854F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85B-A7B1-4E02-A4CC-10A30EF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3BD-EC22-4473-87AF-E4942EC6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322-6389-4F84-BF48-3ABDAE3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562-B772-4350-8A4C-8A3C2C7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80D-DFAA-414E-9FEF-379596CC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2F1-C106-45CC-9CF0-886AF2C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ED31-EE51-49F5-83A7-938D26ED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429000"/>
            <a:ext cx="5562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etry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nd Defend a 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and Defend Thesis in an Engaging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429000"/>
            <a:ext cx="60199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interpretation of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etry deconstruction (nouns, verbs, literary devices, context,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 formation (deduction). Complete thesis dependent on al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2120" y="83808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sis Stat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thesis is and what a thesis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657600"/>
            <a:ext cx="3657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esis Is No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gu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Thesis Wor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, talks about, seems, discu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, someth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3657600"/>
            <a:ext cx="40384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esis 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nd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pretation, not a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hesis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s, explores, defines, shows, demonstrates, proves, argues, means, instr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3200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develop, evaluate, and edit a strong thesis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submit above thesis statement in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B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create and plan an individual project (only those who have not met with me y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9:56Z</dcterms:created>
  <dc:creator>Administrator</dc:creator>
  <dc:description/>
  <dc:language>en-US</dc:language>
  <cp:lastModifiedBy>Administrator</cp:lastModifiedBy>
  <dcterms:modified xsi:type="dcterms:W3CDTF">2010-09-16T12:15:01Z</dcterms:modified>
  <cp:revision>5</cp:revision>
  <dc:subject/>
  <dc:title>Slide 1</dc:title>
</cp:coreProperties>
</file>